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9CF1-3A40-43F7-95D3-EA791A2A7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AFC9-F258-4689-AC42-630706A22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C516-E2BF-4BA4-B418-8164497C1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79BE-F066-468E-85F0-F8457AD81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1166-CF1D-4C08-9D3B-3DCBF2697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DCC9-7A1A-4C56-9FFB-BE0D94475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E599-4EC0-4D66-8770-25118395E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D3ED-1881-4A63-B4A9-EDDD79369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B3B6-0C04-445E-A1C8-513D05D3A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0095-FA4D-446E-8782-8073F555B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471F-FCD3-4CF2-A903-E921C2E24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F282-D382-4CF9-9381-CC9618990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9BDCF-E9A3-4C34-9795-22AE67753A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templates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templates"/>
          <p:cNvPicPr/>
          <p:nvPr/>
        </p:nvPicPr>
        <p:blipFill>
          <a:blip r:embed="rId1"/>
          <a:stretch/>
        </p:blipFill>
        <p:spPr>
          <a:xfrm>
            <a:off x="360360" y="482760"/>
            <a:ext cx="6135840" cy="81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9T04:44:25Z</dcterms:created>
  <dc:creator>Brook Polidano</dc:creator>
  <dc:description/>
  <dc:language>en-US</dc:language>
  <cp:lastModifiedBy>Brook Polidano</cp:lastModifiedBy>
  <dcterms:modified xsi:type="dcterms:W3CDTF">2010-03-29T04:45:44Z</dcterms:modified>
  <cp:revision>1</cp:revision>
  <dc:subject/>
  <dc:title>Slide 1</dc:title>
</cp:coreProperties>
</file>